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B827-7EFB-4467-B122-45A9B59D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 exemp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C19-A1F8-4357-98AC-DFCC6363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EF54-6D0E-45B5-BB04-E4F88A3A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552-7078-42B6-BCE4-8EC63C41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866-5742-40CB-8721-A89502F0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02F-3412-4480-A892-87000E0B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188-E325-4101-8F82-FB40535C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A5B-554C-446D-AD6A-55AD8072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FB3-B55A-4C32-BF06-9A8505EE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7D0-ACF4-4C62-AFE3-3A25750F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DA3-0F2A-46B8-89B4-F186C333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43B-54AB-47AC-BF89-6FFBFBB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335-50C9-4978-9758-003276F0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548A-6786-41B8-B29F-8B32AC70C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esigncouncil.org.uk/resources/assets/image/Picture%2520Desk/Bow%2520Street%2520images/conversions/Library%2520books%2520low%2520res.jpg&amp;imgrefurl=http://www.designcouncil.org.uk/webdav/harmonise%3FPage/%40id%3D6025%26Session/%40id%3DD_hx3A54H0TKXU7k6pq9aH%26Section/%40id%3D1348&amp;h=1200&amp;w=1600&amp;sz=286&amp;hl=en&amp;start=4&amp;tbnid=hv2_e3LmDGtECM:&amp;tbnh=113&amp;tbnw=150&amp;prev=/images%3Fq%3Dlibrary%2Bbooks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2: Small Scale Research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20176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0% of your coursework 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s you to demonstrat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ependent learn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produce 2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esentation script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annotated catalogue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What is the difference between Primary and Secondary resear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19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 Md BT"/>
              </a:rPr>
              <a:t>Primary – Research undertaken directly by yourself in order to generate your </a:t>
            </a:r>
            <a:r>
              <a:rPr b="0" lang="en-GB" sz="2800" spc="-1" strike="noStrike">
                <a:solidFill>
                  <a:srgbClr val="009999"/>
                </a:solidFill>
                <a:latin typeface="AvantGarde Md BT"/>
              </a:rPr>
              <a:t>own</a:t>
            </a:r>
            <a:r>
              <a:rPr b="0" lang="en-GB" sz="2800" spc="-1" strike="noStrike">
                <a:solidFill>
                  <a:srgbClr val="000000"/>
                </a:solidFill>
                <a:latin typeface="AvantGarde Md BT"/>
              </a:rPr>
              <a:t> fi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 Md BT"/>
              </a:rPr>
              <a:t>Secondary – The use of data that </a:t>
            </a:r>
            <a:r>
              <a:rPr b="0" lang="en-GB" sz="2800" spc="-1" strike="noStrike">
                <a:solidFill>
                  <a:srgbClr val="009999"/>
                </a:solidFill>
                <a:latin typeface="AvantGarde Md BT"/>
              </a:rPr>
              <a:t>someone else</a:t>
            </a:r>
            <a:r>
              <a:rPr b="0" lang="en-GB" sz="2800" spc="-1" strike="noStrike">
                <a:solidFill>
                  <a:srgbClr val="000000"/>
                </a:solidFill>
                <a:latin typeface="AvantGarde Md BT"/>
              </a:rPr>
              <a:t> has collected or wri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 Md BT"/>
              </a:rPr>
              <a:t>TASK – Brainstorm different types of both primary and secondary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antGarde Md BT"/>
              </a:rPr>
              <a:t>Prim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557000"/>
            <a:ext cx="725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There are a variety of methods you may use but the main one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Intervie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Textu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vantGarde Md BT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 research question will benefit from the use of a </a:t>
            </a:r>
            <a:r>
              <a:rPr b="0" lang="en-US" sz="2400" spc="-1" strike="noStrike">
                <a:solidFill>
                  <a:srgbClr val="009999"/>
                </a:solidFill>
                <a:latin typeface="AvantGarde Md BT"/>
              </a:rPr>
              <a:t>questionnaire and textual analysis at the very lea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antGarde Md BT"/>
              </a:rPr>
              <a:t>Second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06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vantGarde Md BT"/>
              </a:rPr>
              <a:t>Examples include: Internet, Books, Magazines, Newspapers, Journals, Documentaries, DVD ex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 from books and the internet should be academically grounded, if in doubt ask!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Be wary of overly opinionated writing found on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e media/film section in the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GB" sz="20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form libra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re are some very good resources that you could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 of reliable sources – BBC, The Times, The Guardian, IMDB, BFI, Sight and Sound, British Library (visit i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nd the time to consider the most appropriate secondary sources for your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Types of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extual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Industry Research: producers or institutions behind th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Academic criticism – theories, essay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Popular criticism – reviews, blo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Primary audience research – questionnaires, interviews, obser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examples (distinguish primary &amp; secondar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er analysis (or other advertising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m clips/stills/opening sequences/trailer/dvd commentary and/or ex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gazine (e.g. film mag front covers)/newspaper/online articles/shots/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s (TV/print/online) – blog com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m theory es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naire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dience vs star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x office stats might be relevant (e.g. reven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etical background (e.g. essay about feminism, postmodern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77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ing an interesting invest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plan, research and write a good research project can seem a tall order, especially under a tight dead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search statement is the first extremely important step that sets the agenda for everything that you will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points on state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must be easy to understand. Your wording should be relatively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must have a definite purpose or fo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mportantly it should be something you’re going to find interesting, enjoyable and reward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ing about case stud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tch this clip from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Sweet Sixte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irected by Ken L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enre: British Social re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as of research? Brainst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 or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sues of 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sues of ethnicity/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a of investigation would you focus 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k about what other case studies you would use to accompany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empus Sans ITC"/>
              </a:rPr>
              <a:t>Research Di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5256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You must keep a diary to record all research conducted – I will give you a book for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his diary should include dates, names, and a bibliogra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ry to be as precise and detailed as possible with al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3024360" cy="21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2: Small Scale Research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000" y="19638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need to choose a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a of investig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falls within one of the following 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/perfo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, Historical and Political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920" y="764640"/>
            <a:ext cx="882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rea of investigation 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st b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expressed in terms of a </a:t>
            </a:r>
            <a:r>
              <a:rPr b="1" i="1" lang="en-GB" sz="4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 (as opposed to a question) so that you can research in an open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An example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n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ploration of representations of the zeitgeist within the Dystopian Science-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of Men, The Day After Tomorrow, Independence Day, I Am Legend, 2012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An example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700280"/>
            <a:ext cx="8412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n example of a good research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vestigation into ‘humour’ in contemporary British cinema, looking at the films of Richard Cur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 Actually, Four Weddings and a Funeral, About a Boy, Notting 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d exemplar work – Revisionist West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Annotated cat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741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to 15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 and secondary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item should be referenced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have a short note (of about 5 lines) explaining how it is relevant to you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losing paragraph should identify at least 4 important items not selected for inclusion and explain w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Presentation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844640"/>
            <a:ext cx="792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 – 1500 words and last 12 – 18 min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present this to us and it will b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headings and sub-headings to divide it up but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rite it in an essay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uld show where a piece of supporting material from the Catalogue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items must be referenced by using a Catalogu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adlines – put these in your diary n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468440"/>
            <a:ext cx="828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0 word Rationale (including area of research statement, proposed films and research i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0 word essay exploring your focus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ch your other 3 films and write a 200 word summary of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mary research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ov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ary research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draft of script and cat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draft of script and cat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2:31:25Z</dcterms:created>
  <dc:creator>maninder singh</dc:creator>
  <dc:description/>
  <dc:language>en-US</dc:language>
  <cp:lastModifiedBy>JAlois</cp:lastModifiedBy>
  <dcterms:modified xsi:type="dcterms:W3CDTF">2010-09-10T08:31:15Z</dcterms:modified>
  <cp:revision>12</cp:revision>
  <dc:subject/>
  <dc:title>FM2: Small Scale Research Project</dc:title>
</cp:coreProperties>
</file>